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A00-BD3C-4915-8664-083B9BEE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606-F98B-4CAE-ABF0-25A248A4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B03-C1F2-47E7-A5EB-0C8CE6A7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2A6-E573-4511-997F-7548E43F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5A2-A9BA-4F3F-A242-0DA9558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09B-079D-424D-8C9D-125052D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B27-4FEA-4894-B93F-2A5379ED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516-38D2-4CDC-902F-A5A266DB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98E-DC97-4F57-BEC4-DFF5A5D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FC8-5ED4-49A0-99FA-AB1D216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A45-0442-4C85-A823-8DE1C3E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5F7-BAD0-4334-8C0B-A4666FD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65B-2140-441B-A9AF-83A328DF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onkeyspaw.com/images/mopa-logo.gif&amp;imgrefurl=http://monkeyspaw.com/detournement/booklist.html&amp;usg=__hLeKP7HhzJN31sYW4E3AGvlHxIM=&amp;h=114&amp;w=635&amp;sz=4&amp;hl=en&amp;start=39&amp;um=1&amp;itbs=1&amp;tbnid=f_jDBZ7S_zfcGM:&amp;tbnh=25&amp;tbnw=137&amp;prev=/images%3Fq%3DMonkey%2527s%2Bpaw%2Bin%2Bbig%2Bletters%26ndsp%3D20%26hl%3Den%26safe%3Dstrict%26sa%3DN%26start%3D20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farm4.static.flickr.com/3449/3837481356_5e50c49734.jpg&amp;imgrefurl=http://www.flickr.com/photos/daisylynnmorales/3837481356/&amp;usg=__aw-46JjC_F-93BWzX3MPG-utIk4=&amp;h=380&amp;w=500&amp;sz=170&amp;hl=en&amp;start=141&amp;um=1&amp;itbs=1&amp;tbnid=pyGkUHWA2B2v7M:&amp;tbnh=99&amp;tbnw=130&amp;prev=/images%3Fq%3Dcountry%2Bgirls%26ndsp%3D20%26hl%3Den%26safe%3Dstrict%26sa%3DN%26start%3D140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sublimestitching.com/files/images/Country-Cool-Girls-Guns.jpg&amp;imgrefurl=http://www.sublimestitching.com/countrycool.html&amp;usg=__iXyaQRe_u1Q-aCr0_m_QWH7Rq94=&amp;h=600&amp;w=600&amp;sz=72&amp;hl=en&amp;start=8&amp;um=1&amp;itbs=1&amp;tbnid=_SWc9YZ0FWLzxM:&amp;tbnh=135&amp;tbnw=135&amp;prev=/images%3Fq%3Dcountry%2Bgirls%2Bwith%2Bguns%26hl%3Den%26safe%3Dstrict%26um%3D1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6205680"/>
            <a:ext cx="3581640" cy="652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343400"/>
            <a:ext cx="2438280" cy="185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4191120" y="0"/>
            <a:ext cx="4267080" cy="316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733920" y="297180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99ccff"/>
                  </a:solidFill>
                  <a:miter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rangler"/>
              </a:rPr>
              <a:t>Town's-Girl</a:t>
            </a:r>
            <a:endParaRPr b="0" lang="en-US" sz="1800" spc="1" strike="noStrike">
              <a:ln w="41400">
                <a:solidFill>
                  <a:srgbClr val="99ccff"/>
                </a:solidFill>
                <a:miter/>
              </a:ln>
              <a:solidFill>
                <a:srgbClr val="9966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rangler"/>
              <a:ea typeface="Wrangler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4572000"/>
            <a:ext cx="3124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rangler"/>
              </a:rPr>
              <a:t>AKA: "Town Slut"</a:t>
            </a:r>
            <a:endParaRPr b="0" lang="en-US" sz="1800" spc="1" strike="noStrike">
              <a:ln w="25560">
                <a:solidFill>
                  <a:srgbClr val="99ccff"/>
                </a:solidFill>
                <a:miter/>
              </a:ln>
              <a:solidFill>
                <a:srgbClr val="9966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rangler"/>
              <a:ea typeface="Wrangler"/>
            </a:endParaRPr>
          </a:p>
        </p:txBody>
      </p:sp>
      <p:pic>
        <p:nvPicPr>
          <p:cNvPr id="46" name="" descr="GirlsandGuns.jpg Girls and Guns image by Longsplice"/>
          <p:cNvPicPr/>
          <p:nvPr/>
        </p:nvPicPr>
        <p:blipFill>
          <a:blip r:embed="rId6"/>
          <a:stretch/>
        </p:blipFill>
        <p:spPr>
          <a:xfrm>
            <a:off x="0" y="0"/>
            <a:ext cx="3535200" cy="525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41911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9:49:50Z</dcterms:created>
  <dc:creator> </dc:creator>
  <dc:description/>
  <dc:language>en-US</dc:language>
  <cp:lastModifiedBy> </cp:lastModifiedBy>
  <dcterms:modified xsi:type="dcterms:W3CDTF">2010-02-05T20:19:11Z</dcterms:modified>
  <cp:revision>3</cp:revision>
  <dc:subject/>
  <dc:title>Slide 1</dc:title>
</cp:coreProperties>
</file>